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93A5-2A44-4071-8068-C5E4A60F2A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8859-B076-4D4D-8C55-ADFD4D20BDF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9B0-F9EC-426D-871F-7B652472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E9B-AB21-4757-819D-37719421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DDE-DDE7-487C-B2E2-44100D28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7EC5-56E4-4C6B-A10C-693E6810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BDCF-81BE-4797-8595-CCED66F4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A02C-7B41-480F-A9BB-6B31EF2A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DE14-1C82-45AF-AF6C-9C600C81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94A5-D37D-48AB-86D1-47D4274B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DA86-8FF2-495C-9D1D-2EDB36D1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1DF8-6D05-4D12-AE5F-A9BA9E7E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941F-F232-4372-AAF5-7A4A1DB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6FAE-56AC-4D72-9B5C-E59C557E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97C2-5FC0-4AB4-999C-C077849A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BD88-C6E8-4461-9871-A68716C6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854F-0741-47DC-9FDB-6ACDD4F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A88-9810-401F-BBF9-C2C4B934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3CA0-6711-45F0-94B2-6998757B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F56D8-949D-4640-B845-B816C05C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E18BD-5074-4031-926F-0582FE492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0310-6D59-4BC6-BD64-A5270283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9565-6FE2-4C6E-A21B-D39AD5EA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4799-1E38-49EB-BA57-31B4E36C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50DF-DBBB-4858-A718-4BC2FBB1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E0A76-347C-4949-A7C7-E6F17C1A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6CF2F-97C6-4092-9FC6-1AF7F69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AA55B-012C-4716-BC85-AB56CF4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8F18A-EF23-43E8-BBD9-1EDE0D0E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0C354-EE9A-40EB-B2C8-92349058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16589-D57D-4E43-8475-5002E437D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C4C18-1B44-417B-8600-799CDFA7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C7A3C-A267-42E2-ABA3-F3C59D07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EBC90-476C-49FF-9CD6-D124081A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7803-D7D5-48B4-9D58-ED191AF2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2247-506E-4A23-A6FD-D038F8D8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3D02-0AAC-42FF-985E-A914C5BF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1EEDA-2BD4-43F6-937B-62DCB95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190F7-901C-446E-B78A-23D63F2B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D1D6D-C5ED-46C4-BC59-BEFA3F54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6C456-5232-4E3D-970A-AAFEE2A7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C9EA0-47C2-427C-AEE6-2A78E34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F92F9-E982-462A-B62B-DC8285B8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3DF2-5CF6-4349-8640-5B9109C4E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A5261-888E-4A3C-A1D7-B475A920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CBFC1-0B50-4F87-B5BE-536EE607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E16E-9F32-40B1-8428-2C1EC1D2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489D3-4107-4BF7-B880-99BBFE9C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F7175-68FA-451F-8973-AA444E1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CDAB-F4C4-4F9C-886F-9463CAC1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10E07-304C-4AF6-8BFF-9DD9E74D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2FCE-D298-4770-BAA2-7BD3EBDC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61DE0-7913-44DC-BDB3-46481915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2D74F-B1C7-4BB7-93F7-BE8744FA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77EF9-1FA5-4355-ABE4-F2EF77A9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A8ED-03D3-4851-B73E-0D0335F5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FD27-2D1F-4D67-BEF8-0092B81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069-4DA1-48B6-93C8-21784FA8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78627-55EC-4F66-89D7-B2A5D1EEE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1C672-9AB4-4535-8D3D-0128258A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4F3E2-CB7C-488A-BBB9-F7310CD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E69D3-BE3E-4057-8186-E769D25A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11B37-11CB-455F-90DF-E200F36A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8422-BA26-4616-A068-555D965B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D4C9E-78BE-4196-B2AE-A2A1AA0F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F19F7-7696-4A14-8D19-7D403BA5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AF65-C88E-4DE5-9FBE-0E275B6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76177-8909-4752-92A1-FA9D9427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E87-D1FA-4DA2-990B-A51A7279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7330F-61EC-4CC2-9CF3-5DC27828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BE905-2E08-4D5D-830D-C2154A83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2965B-811D-4263-B89D-C235702B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24BF-2813-43C3-9610-AEEA761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7420-2204-4ADD-A93A-83F39B35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783-F832-4FF8-B0A1-E2C6A3B8D715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7262-C54C-426E-843D-E0109DA7F56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3A75-352E-4A8B-9821-E41C697284FC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EB4B-7290-4FD6-A0A2-B246C4C5B38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BB62-80DC-4879-8778-D65519C7FD14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B762-F009-4105-AFE4-EC7BC4196B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2CE6-AB62-4352-B82F-1731743B8227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AE0A-D44E-4874-9D75-5BC978077A2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8703-AD8B-4635-9623-64BCD30EE11E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47B4-1CFE-4C70-8582-1CD221852C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5A48-50FE-4938-B4AB-FAFFA3EE5F56}" type="datetime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Question #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340B-8A19-4004-BA23-8D93C8D6BAE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 and your partner may work together on this assignment, but you each must have the answers written on your own pap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304920" y="53341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*Notice the questions start with number 2, there is no number 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weight of a rainbow fish increases 1 pound for every 2 inches it grow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ou buy a new car for $24000 and every month it depreciates in value by $500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503C4459-7F96-47FB-8E3D-2935B4FA2C37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day your book is overdue at the library costs another 20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3661290A-22DA-492F-B5DF-0B6AEEA4531A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5" name="Content Placeholder 3" descr=""/>
          <p:cNvPicPr/>
          <p:nvPr/>
        </p:nvPicPr>
        <p:blipFill>
          <a:blip r:embed="rId1"/>
          <a:stretch/>
        </p:blipFill>
        <p:spPr>
          <a:xfrm>
            <a:off x="2205000" y="1897200"/>
            <a:ext cx="3971880" cy="393372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2AF76BFE-F975-473A-80D0-24CF307DF6E8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09" name="Content Placeholder 3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310" name="Slide Number Placeholder 4"/>
          <p:cNvSpPr/>
          <p:nvPr/>
        </p:nvSpPr>
        <p:spPr>
          <a:xfrm>
            <a:off x="7391520" y="64213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F3C269A8-E2BB-4F03-8404-CA1532710316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3" name="Content Placeholder 3" descr=""/>
          <p:cNvPicPr/>
          <p:nvPr/>
        </p:nvPicPr>
        <p:blipFill>
          <a:blip r:embed="rId1"/>
          <a:stretch/>
        </p:blipFill>
        <p:spPr>
          <a:xfrm>
            <a:off x="2195640" y="1906560"/>
            <a:ext cx="3990960" cy="391464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086600" y="6421320"/>
            <a:ext cx="182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FCE4604D-CF38-4B4B-8DA6-F258D0F71CFE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17" name="Content Placeholder 4" descr=""/>
          <p:cNvPicPr/>
          <p:nvPr/>
        </p:nvPicPr>
        <p:blipFill>
          <a:blip r:embed="rId1"/>
          <a:stretch/>
        </p:blipFill>
        <p:spPr>
          <a:xfrm>
            <a:off x="2176560" y="1900080"/>
            <a:ext cx="4029120" cy="3924360"/>
          </a:xfrm>
          <a:prstGeom prst="rect">
            <a:avLst/>
          </a:prstGeom>
          <a:ln w="0">
            <a:noFill/>
          </a:ln>
        </p:spPr>
      </p:pic>
      <p:sp>
        <p:nvSpPr>
          <p:cNvPr id="318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E8EE30F7-1BBF-4CB0-BF51-61C6BEA87DE2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1" name="Content Placeholder 4" descr=""/>
          <p:cNvPicPr/>
          <p:nvPr/>
        </p:nvPicPr>
        <p:blipFill>
          <a:blip r:embed="rId1"/>
          <a:stretch/>
        </p:blipFill>
        <p:spPr>
          <a:xfrm>
            <a:off x="2209680" y="1900080"/>
            <a:ext cx="3962520" cy="3924360"/>
          </a:xfrm>
          <a:prstGeom prst="rect">
            <a:avLst/>
          </a:prstGeom>
          <a:ln w="0">
            <a:noFill/>
          </a:ln>
        </p:spPr>
      </p:pic>
      <p:sp>
        <p:nvSpPr>
          <p:cNvPr id="322" name="Slide Number Placeholder 3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34673267-B7B7-4028-9565-E535EAD1AC98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Write a scenario that would describe this graph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25" name="Content Placeholder 4" descr=""/>
          <p:cNvPicPr/>
          <p:nvPr/>
        </p:nvPicPr>
        <p:blipFill>
          <a:blip r:embed="rId1"/>
          <a:stretch/>
        </p:blipFill>
        <p:spPr>
          <a:xfrm>
            <a:off x="2228760" y="1890720"/>
            <a:ext cx="3924360" cy="3943440"/>
          </a:xfrm>
          <a:prstGeom prst="rect">
            <a:avLst/>
          </a:prstGeom>
          <a:ln w="0">
            <a:noFill/>
          </a:ln>
        </p:spPr>
      </p:pic>
      <p:sp>
        <p:nvSpPr>
          <p:cNvPr id="326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1717348F-9098-4014-84E7-746D30CA078D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57200" y="2286000"/>
          <a:ext cx="7924680" cy="4280040"/>
        </p:xfrm>
        <a:graphic>
          <a:graphicData uri="http://schemas.openxmlformats.org/drawingml/2006/table">
            <a:tbl>
              <a:tblPr/>
              <a:tblGrid>
                <a:gridCol w="3962520"/>
                <a:gridCol w="3962160"/>
              </a:tblGrid>
              <a:tr h="107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number of cards bough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money spent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4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66" name="Slide Number Placeholder 5"/>
          <p:cNvSpPr/>
          <p:nvPr/>
        </p:nvSpPr>
        <p:spPr>
          <a:xfrm>
            <a:off x="7620120" y="6421320"/>
            <a:ext cx="1295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A9E900D0-DC66-42AA-9550-212763670089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533520" y="2286000"/>
          <a:ext cx="8153280" cy="4314960"/>
        </p:xfrm>
        <a:graphic>
          <a:graphicData uri="http://schemas.openxmlformats.org/drawingml/2006/table">
            <a:tbl>
              <a:tblPr/>
              <a:tblGrid>
                <a:gridCol w="4076640"/>
                <a:gridCol w="4076640"/>
              </a:tblGrid>
              <a:tr h="1510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x (the distance from Antarctica in miles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 (the temperature in °F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69" name="Slide Number Placeholder 5"/>
          <p:cNvSpPr/>
          <p:nvPr/>
        </p:nvSpPr>
        <p:spPr>
          <a:xfrm>
            <a:off x="7848720" y="64213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E2B93ED9-7954-4D28-8D02-FE141227D98E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0" y="2475000"/>
          <a:ext cx="9144000" cy="38494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days into winter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the temperature in ºC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0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561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2" name="Slide Number Placeholder 4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6EF14F64-1B69-4595-BB65-BADCF20BD6C3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76320" y="2214720"/>
          <a:ext cx="9067680" cy="4416120"/>
        </p:xfrm>
        <a:graphic>
          <a:graphicData uri="http://schemas.openxmlformats.org/drawingml/2006/table">
            <a:tbl>
              <a:tblPr/>
              <a:tblGrid>
                <a:gridCol w="4533840"/>
                <a:gridCol w="453384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people who come in the room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the amount of work that gets done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5" name="Slide Number Placeholder 4"/>
          <p:cNvSpPr/>
          <p:nvPr/>
        </p:nvSpPr>
        <p:spPr>
          <a:xfrm>
            <a:off x="7467480" y="6421320"/>
            <a:ext cx="144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C93FBB9B-C114-499C-86FB-7D29A6BFF38E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57200" y="2376360"/>
          <a:ext cx="8229600" cy="4416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x (number of tardies to clas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 (scores on math tests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  <p:sp>
        <p:nvSpPr>
          <p:cNvPr id="278" name="Slide Number Placeholder 4"/>
          <p:cNvSpPr/>
          <p:nvPr/>
        </p:nvSpPr>
        <p:spPr>
          <a:xfrm>
            <a:off x="6858000" y="6421320"/>
            <a:ext cx="205740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ooter Placeholder 5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569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pound of crab can be purchased at the market for $18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238880" y="6421320"/>
            <a:ext cx="1676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08652726-23B0-405D-9107-76F1383A0775}" type="slidenum">
              <a:rPr b="0" lang="en-US" sz="24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ry year, the polar icecaps melt at a rate of 4 yards. They started with 4,378,321 yard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162920" y="6421320"/>
            <a:ext cx="175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9a98"/>
                </a:solidFill>
                <a:latin typeface="Arial"/>
              </a:rPr>
              <a:t>Question #</a:t>
            </a:r>
            <a:fld id="{70AC2A71-9995-41C8-BEB0-360D0960E827}" type="slidenum">
              <a:rPr b="0" lang="en-US" sz="2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a) Write a sentence describing the slope in this problem.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b) Is this a positive or negative correlation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Franklin Gothic Book"/>
              </a:rPr>
              <a:t>c) Write an equation representing the function.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rental car company offers cars for $100 and an additional charge of 80₵ per mile travel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7315200" y="6421320"/>
            <a:ext cx="1600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b9a98"/>
                </a:solidFill>
                <a:latin typeface="Arial"/>
              </a:rPr>
              <a:t>Question </a:t>
            </a:r>
            <a:r>
              <a:rPr b="0" lang="en-US" sz="1800" spc="-1" strike="noStrike">
                <a:solidFill>
                  <a:srgbClr val="9b9a98"/>
                </a:solidFill>
                <a:latin typeface="Arial"/>
              </a:rPr>
              <a:t>#</a:t>
            </a:r>
            <a:fld id="{968DD2AB-D8F5-49A1-8927-5E19F869E6BC}" type="slidenum">
              <a:rPr b="0" lang="en-US" sz="18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42132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9:56:22Z</dcterms:created>
  <dc:creator>.</dc:creator>
  <dc:description/>
  <dc:language>en-US</dc:language>
  <cp:lastModifiedBy>.</cp:lastModifiedBy>
  <dcterms:modified xsi:type="dcterms:W3CDTF">2014-02-28T14:30:51Z</dcterms:modified>
  <cp:revision>41</cp:revision>
  <dc:subject/>
  <dc:title>Slide 1</dc:title>
</cp:coreProperties>
</file>